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7845F-EFA3-4D81-9812-FDFBE5469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8CF55-6B39-4B09-ADD3-A56A1CD2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CA5EA-8276-44EC-B769-ED243F2CB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C978C-DF45-4978-A226-4AC3B5904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1C33F-3CD5-48C7-9425-37A3EF04F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B18B-B289-49B3-99BE-5EB5A6DF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55467-A41D-4C22-B918-9E6D32A43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5EB70-69B2-4D3A-B695-D4495B21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095B7-3A72-4DEB-A4C1-CEF069A37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5E2D-E61A-4431-A522-0EED2EB1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B35AF-4CBB-4077-8B76-74AEBC840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51C73-C8E2-4018-8920-B16EC2EA3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C383-F31F-4BF6-85D0-BB0079D41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819520" y="4572000"/>
            <a:ext cx="374328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 - 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advTm="5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p:transition advTm="5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transition advTm="5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3b2</cp:lastModifiedBy>
  <dcterms:modified xsi:type="dcterms:W3CDTF">2012-06-18T10:57:56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